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brad" initials="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9-11-14T15:12:50.853000000" idx="1">
    <p:pos x="5760" y="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6FB-1C71-4A1E-B98A-16D11D17C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057D-F1DE-4201-9D17-43BA2E06A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26F-2925-43C2-BA89-3081D196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88B-FEB1-4214-9783-CEB09B64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BE8-0E35-4628-BDFD-4329410B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34F-6A97-4F3C-93FE-432FF4A6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3E37-35A4-4472-8A7B-BC5B89DE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BAED-FFC5-4F4C-9D31-E97D729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35BB-6F69-429F-886C-B245C94E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CCC6-D058-4F53-AC69-6528CD5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D10-FBF8-4EFA-940C-619CC738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A8EE-F810-45A0-B115-F704F4D0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C7EE-FA0E-445F-906A-0B0170E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4E3-04C1-4330-A3A2-DA952843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C38A-6E1C-402D-B3F7-833D5FD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3B0-5AD8-4FAA-A985-AC84A81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DFB6-3388-4142-A2E4-3CED45F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689B-8557-4D39-B6B2-7AE5FF9B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1388-84EA-43F3-8E69-F0BC489A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51EA-F23E-462A-AFC2-62817376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4586-65FA-43C3-9374-66DB97C3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BA6C-2831-4E53-97C3-9246C9E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3FD1-CFBB-4288-8245-559223DE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121D-3167-4915-8368-B6FDE90B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F8E-4C29-400C-BD09-2A2BB981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0F24-F920-48A3-940B-57FC991A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83F4-CDB3-495B-8B4F-88BF358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3C01-5524-4A99-8012-67B3E53E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9F6D-D9BF-4E24-A0DB-930445D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303C-01B3-4BCB-B9EE-475022E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C407-4079-444F-8E11-AF643D66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FBCD-0AEC-4D16-B4E5-8416B3A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65C7-1A16-4522-897E-EAAB815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9BF4-474C-459B-BC52-267B15FD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F56D-D63B-403B-9814-A9749E6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458-30AD-444A-9A9F-73DAD9D0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5E40-CA14-438D-9420-B649FAF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344A-8856-444D-888F-14FD6DD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3E33-E87B-4717-8C4C-86DC007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BA318-86DF-474C-96A2-20AB03C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57DE-FA77-4AF7-992A-D4C5B912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9BEF-4CA1-45D9-A5A9-5C7AC27C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53A6-B276-4D8E-B679-B72298EE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D7721-6CEE-43C8-ADC8-60AC9E83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3F1F-D272-4EC9-BB81-1BE6396B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CA8-C0F4-48A2-8A79-54613186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179-6B4F-4193-AED3-EF59BAA2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8CF-CE63-4720-BD95-92D5018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CDC-EA0C-4F1C-ABCC-A7767B7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C69-BE65-40BA-9295-6C726BD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D127-746A-4707-BBAA-9CE14605C87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B4D8-4DEC-4F14-ABAB-6DB366E921D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CB6-BFCD-44F0-AF9C-9F6914FE70E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F1C0-168E-4A98-85F6-250A074F115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rdowling.com/612-monsoon.html" TargetMode="External"/><Relationship Id="rId2" Type="http://schemas.openxmlformats.org/officeDocument/2006/relationships/hyperlink" Target="http://www.ammusart.com/html/story_of_shiva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990720" y="533520"/>
            <a:ext cx="7391160" cy="54864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"/>
              </a:rPr>
              <a:t>Shiva’s F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9888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y: Abby McCo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150480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Two good links I found were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8120" y="18288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mrdowling.com/612-monsoon.html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on monsoon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nother was 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ammusart.com/html/story_of_shiva.html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on Shiva the Indian Go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17520" y="1706400"/>
            <a:ext cx="8680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c30b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0880" y="152280"/>
            <a:ext cx="8458200" cy="6477120"/>
          </a:xfrm>
          <a:prstGeom prst="rect">
            <a:avLst/>
          </a:prstGeom>
          <a:solidFill>
            <a:srgbClr val="c966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272880"/>
            <a:ext cx="8381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바탕"/>
                <a:ea typeface="바탕"/>
              </a:rPr>
              <a:t>Meet                            Suzanne Fisher Staples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바탕"/>
                <a:ea typeface="바탕"/>
              </a:rPr>
              <a:t>       The Author</a:t>
            </a:r>
            <a:br>
              <a:rPr sz="20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orn in Philadelphia &amp; grew up in Pennsylvan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Graduated from Keystone Collage &amp; Cedar Colla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fter school went to work as reporter and traveled around the worl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he has written several other novels including The Green Dog, Shabanu, and Stor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on many awards and citations including Newbery Honor 1990 &amp;New York Times Outstanding Book of The Yea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e96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04920" y="228600"/>
            <a:ext cx="8534160" cy="6095880"/>
          </a:xfrm>
          <a:prstGeom prst="rect">
            <a:avLst/>
          </a:prstGeom>
          <a:solidFill>
            <a:srgbClr val="a5c249"/>
          </a:solidFill>
          <a:ln w="25560">
            <a:solidFill>
              <a:srgbClr val="edf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Felix Titling"/>
              </a:rPr>
              <a:t>Plo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From the day Parvati is born its clear she is unlike other children.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t an early age she starts to realize her gifts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The gift music &amp; dance, ability to speak to things inhuman such as birds and snakes and remember her infant yea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s she grows she is banned from dance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Some miracles/visions she worked as a child: tamed a wild cobra danced, in the flames and was unburned, and saw the wooden shrine of Shiva dance at night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hen she is still young a guru comes to see her roamers spread fas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The guru asks Parvati to join him at a gurukulam were she will become a devadas and worship the gods through danc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he excepts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And pretty soon is at the gurukulam except when ever she gets near fire she will here a strange sort of music so she must avoid flam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eets friend Nalini but soon Nalini falls in love with with a man who steals from the rich and gives to the poor(an out law) and he takes her away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37b8"/>
                </a:solidFill>
                <a:latin typeface="Constantia"/>
              </a:rPr>
              <a:t>Gets invited to do her first public appearance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eets a boy named Rama and falls in love with him  but devadas students cant marry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737b8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UT THAT IS WERE I HAVE TO STOP BECAUSE I CANT GIVE AWAY    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E  ENDING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28600" y="152280"/>
            <a:ext cx="8610480" cy="6553440"/>
          </a:xfrm>
          <a:prstGeom prst="rect">
            <a:avLst/>
          </a:prstGeom>
          <a:solidFill>
            <a:srgbClr val="aeeb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 rot="20279400">
            <a:off x="0" y="166320"/>
            <a:ext cx="3038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 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               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	</a:t>
            </a:r>
            <a:r>
              <a:rPr b="1" i="1" lang="en-US" sz="3200" spc="-1" strike="noStrike">
                <a:solidFill>
                  <a:srgbClr val="04617b"/>
                </a:solidFill>
                <a:latin typeface="바탕"/>
                <a:ea typeface="바탕"/>
              </a:rPr>
              <a:t>Sett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008160" cy="469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ook Shiva’s Fire takes place in Southern Ind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author notes that the village of Anandanagar and the district state called Nandipuram are fictional plac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5313240" y="533520"/>
            <a:ext cx="3830760" cy="358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04920" y="228600"/>
            <a:ext cx="8381880" cy="6248520"/>
          </a:xfrm>
          <a:prstGeom prst="rect">
            <a:avLst/>
          </a:prstGeom>
          <a:solidFill>
            <a:srgbClr val="89edf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2819520" cy="99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comic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omic"/>
              </a:rPr>
              <a:t>         </a:t>
            </a:r>
            <a:r>
              <a:rPr b="1" lang="en-US" sz="1600" spc="-1" strike="noStrike">
                <a:solidFill>
                  <a:srgbClr val="0070c0"/>
                </a:solidFill>
                <a:latin typeface="comic"/>
              </a:rPr>
              <a:t>Important </a:t>
            </a:r>
            <a:br>
              <a:rPr sz="1600"/>
            </a:br>
            <a:r>
              <a:rPr b="1" lang="en-US" sz="2900" spc="-1" strike="noStrike">
                <a:solidFill>
                  <a:srgbClr val="0070c0"/>
                </a:solidFill>
                <a:latin typeface="comic"/>
              </a:rPr>
              <a:t>Character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2840040" cy="3117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b0f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The main character in the book Shiva’s fire is Parvati, a girl who’s gifted from the star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Amma or Meenakshi: Parvati’s mother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Nalini: Parvati’s best friend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Uncle  Sathya &amp; Auntie: Parvati’s uncle and au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Parvati's brothers, Venkat &amp; Venu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onstantia"/>
              </a:rPr>
              <a:t>Rama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6488280" y="1676520"/>
            <a:ext cx="265572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96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04920" y="228600"/>
            <a:ext cx="8381880" cy="6324480"/>
          </a:xfrm>
          <a:prstGeom prst="rect">
            <a:avLst/>
          </a:prstGeom>
          <a:solidFill>
            <a:srgbClr val="f5d3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2625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바탕"/>
                <a:ea typeface="바탕"/>
              </a:rPr>
              <a:t>Conflict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008160" cy="3822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mma doesn't want Parvati to dance but she was born to dance in Shiva’s Flame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Parvati’s death causes a series of later more unfortunate events ends in death, hunger, and poverty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Parvati’s friend goes away with Myappan the man who steals from the rich and gives to the po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Parvati looses all her guru’s jewelry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Dosent know is she should quit being a devadasi to be with Ram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4800600" y="1066680"/>
            <a:ext cx="3352680" cy="3886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www.historyforkids.org/learn/india/religion/pictures/shiva.jpg"/>
          <p:cNvPicPr/>
          <p:nvPr/>
        </p:nvPicPr>
        <p:blipFill>
          <a:blip r:embed="rId2"/>
          <a:stretch/>
        </p:blipFill>
        <p:spPr>
          <a:xfrm>
            <a:off x="6400800" y="12952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http://www.usagold.com/gold/coins/pics/pre-1933-coins.jpeg"/>
          <p:cNvPicPr/>
          <p:nvPr/>
        </p:nvPicPr>
        <p:blipFill>
          <a:blip r:embed="rId3"/>
          <a:stretch/>
        </p:blipFill>
        <p:spPr>
          <a:xfrm>
            <a:off x="5105520" y="1295280"/>
            <a:ext cx="1365120" cy="1676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www.freefoto.com/images/33/15/33_15_57---Fire-Flame-Textures_web.jpg"/>
          <p:cNvPicPr/>
          <p:nvPr/>
        </p:nvPicPr>
        <p:blipFill>
          <a:blip r:embed="rId4"/>
          <a:stretch/>
        </p:blipFill>
        <p:spPr>
          <a:xfrm>
            <a:off x="5105520" y="29718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f83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33520" y="380880"/>
            <a:ext cx="8381880" cy="6172200"/>
          </a:xfrm>
          <a:prstGeom prst="rect">
            <a:avLst/>
          </a:prstGeom>
          <a:solidFill>
            <a:srgbClr val="25cb0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http://bbs.chinadaily.com.cn/attachments/month_0904/monsoon-trivandrum-392870-sw_Kl52Gbrmvs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2133720" y="762120"/>
            <a:ext cx="5410080" cy="4952880"/>
          </a:xfrm>
          <a:prstGeom prst="rect">
            <a:avLst/>
          </a:prstGeom>
          <a:solidFill>
            <a:srgbClr val="ffffff">
              <a:alpha val="35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419112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ench Script MT"/>
              </a:rPr>
              <a:t>Monsoon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123720" y="914400"/>
            <a:ext cx="300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onso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Shiva’s Fire the first clap of thunder from the first monsoon was a signal that the gods had been pleased by the offering of gold give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very summer the sky opens up and rain pours down on In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onsoons come from moist air masses from the Indian Ocean as they move south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ave an annual appearance in In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ave very high wind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igh temperatur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igh moister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winter winds blow from land to sea in summer winds blow from sea to lan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16440" y="123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http://personal.telefonica.terra.es/web/indra-regalos/dioses/fotohindu/shiv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1905120" y="457200"/>
            <a:ext cx="472428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981080" y="457200"/>
            <a:ext cx="57913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Worshiping of the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Idle Sh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Shiva destroyed the world and used dance to restore 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Known also as Rud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Worshipped as a form of Hindui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Known as the destr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Said to have destroyed 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Symbol is the sn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Arial"/>
              </a:rPr>
              <a:t>Has a third eye in middle of fore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461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62644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04920" y="304920"/>
            <a:ext cx="8305560" cy="6095880"/>
          </a:xfrm>
          <a:prstGeom prst="rect">
            <a:avLst/>
          </a:prstGeom>
          <a:solidFill>
            <a:srgbClr val="7f437b"/>
          </a:solidFill>
          <a:ln w="25560">
            <a:solidFill>
              <a:srgbClr val="752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733920" y="75960"/>
            <a:ext cx="30081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e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838080" y="1295280"/>
            <a:ext cx="3200400" cy="3200400"/>
          </a:xfrm>
          <a:prstGeom prst="rect">
            <a:avLst/>
          </a:prstGeom>
          <a:solidFill>
            <a:srgbClr val="11dff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heme in the beginning of the book is hunger and povert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vati and her family must live in a crumbling mud room off there uncle and auntie’s h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money Parvati makes being a devadas her family builds a new home and small far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2381400" cy="2079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5029200" y="3378240"/>
            <a:ext cx="2743200" cy="1328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2:24:10Z</dcterms:created>
  <dc:creator>brad</dc:creator>
  <dc:description/>
  <dc:language>en-US</dc:language>
  <cp:lastModifiedBy>Merritt</cp:lastModifiedBy>
  <dcterms:modified xsi:type="dcterms:W3CDTF">2009-11-18T03:58:37Z</dcterms:modified>
  <cp:revision>79</cp:revision>
  <dc:subject/>
  <dc:title>Siva’s Fire</dc:title>
</cp:coreProperties>
</file>